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67975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54388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6"/>
          </p:nvPr>
        </p:nvSpPr>
        <p:spPr>
          <a:xfrm>
            <a:off x="5740560" y="9429840"/>
            <a:ext cx="10569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5357-2F3B-4C63-B31F-9F0BCC7A37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5740560" y="9429840"/>
            <a:ext cx="1056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8EB2-CC98-4B40-91BD-757E3086F0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 of the framewor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onsists of the entire legal, political, financial and procedural system within which the EC services must operate when carrying out interventions in man-made, natural or structural crisis situa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overs the EU treaties, international agreements, overall policies, thematic and sector policies to financial instruments, related financial procedures as well as the entire programming and project cyc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5740560" y="9429840"/>
            <a:ext cx="1056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CDFF-5BC5-4914-BC83-92088D46AC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 of the framewor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onsists of the entire legal, political, financial and procedural system within which the EC services must operate when carrying out interventions in man-made, natural or structural crisis situa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overs the EU treaties, international agreements, overall policies, thematic and sector policies to financial instruments, related financial procedures as well as the entire programming and project cyc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5740560" y="9429840"/>
            <a:ext cx="1056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8256-5B6D-40F4-992A-8EB2D50905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 of the framewor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onsists of the entire legal, political, financial and procedural system within which the EC services must operate when carrying out interventions in man-made, natural or structural crisis situa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overs the EU treaties, international agreements, overall policies, thematic and sector policies to financial instruments, related financial procedures as well as the entire programming and project cyc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5740560" y="9429840"/>
            <a:ext cx="1056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10A9-65A8-418D-A509-AF3ED8F730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 of the framewor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onsists of the entire legal, political, financial and procedural system within which the EC services must operate when carrying out interventions in man-made, natural or structural crisis situa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overs the EU treaties, international agreements, overall policies, thematic and sector policies to financial instruments, related financial procedures as well as the entire programming and project cyc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5740560" y="9429840"/>
            <a:ext cx="1056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2747-1E0A-4893-87D0-EEACDB3C1C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 of the framewor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onsists of the entire legal, political, financial and procedural system within which the EC services must operate when carrying out interventions in man-made, natural or structural crisis situa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overs the EU treaties, international agreements, overall policies, thematic and sector policies to financial instruments, related financial procedures as well as the entire programming and project cyc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C851D-03AF-4B4B-B6B4-2B908F1C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A502A-C4CD-4C37-8444-FDF0B2AB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9B554-FEA1-4504-8C90-5F80E3CE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ACAED-4AA5-4288-91F4-A2AB76CF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379C2-923F-4383-B3BF-F174404C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9F110-85D8-4C84-B07A-003A7964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94C97-6009-4917-9732-F7A96524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D16D7-3B96-4AA0-BDEA-B166D1B3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71EAB-BD16-4C70-B781-98B0B868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02E59-176F-4C4B-89DD-E9BEC33D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28EAC-6403-44C2-83B7-806B6BC7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99586-9DCC-40C5-AABA-2A432F42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086600" y="632448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4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5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7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8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5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7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08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0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5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Picture 162" descr="logo-formation"/>
          <p:cNvPicPr/>
          <p:nvPr/>
        </p:nvPicPr>
        <p:blipFill>
          <a:blip r:embed="rId5"/>
          <a:stretch/>
        </p:blipFill>
        <p:spPr>
          <a:xfrm>
            <a:off x="7924680" y="0"/>
            <a:ext cx="1219320" cy="115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4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6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8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5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7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2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3" name="Picture 97" descr="dmi"/>
          <p:cNvPicPr/>
          <p:nvPr/>
        </p:nvPicPr>
        <p:blipFill>
          <a:blip r:embed="rId3"/>
          <a:stretch/>
        </p:blipFill>
        <p:spPr>
          <a:xfrm>
            <a:off x="7086600" y="6324480"/>
            <a:ext cx="1690560" cy="277920"/>
          </a:xfrm>
          <a:prstGeom prst="rect">
            <a:avLst/>
          </a:prstGeom>
          <a:ln w="0">
            <a:noFill/>
          </a:ln>
        </p:spPr>
      </p:pic>
      <p:pic>
        <p:nvPicPr>
          <p:cNvPr id="284" name="FIRST_PAGE_HEADER" descr="IBMlogo_blue2"/>
          <p:cNvPicPr/>
          <p:nvPr/>
        </p:nvPicPr>
        <p:blipFill>
          <a:blip r:embed="rId4"/>
          <a:stretch/>
        </p:blipFill>
        <p:spPr>
          <a:xfrm>
            <a:off x="539640" y="6308640"/>
            <a:ext cx="809640" cy="3240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3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4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A175-D4F6-4497-8C8E-D4BA41851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0773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ey question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6940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1: After having discussed your respective experiences in dealing with transition situations, could you agree on a list of best practices? (at the different stages of the intervention cycle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SimSun"/>
              </a:rPr>
              <a:t>CSP with different scenar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SimSun"/>
              </a:rPr>
              <a:t>Joint needs assessment with ECHO and other stakehol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SimSun"/>
              </a:rPr>
              <a:t>Involvement of ECHO in the programming cycle (when releva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CfP evalu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SimSun"/>
              </a:rPr>
              <a:t>Harmonisation of positions on specific sectors (ECHO, Del and 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0773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ey question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6940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1: After having discussed your respective experiences in dealing with transition situations, could you agree on a list of best practices? (at the different stages of the intervention cycle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...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  <a:ea typeface="SimSun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SimSun"/>
              </a:rPr>
              <a:t>Mainstreaming of Conflict Sensitivity (disability, protection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SimSun"/>
              </a:rPr>
              <a:t>Complementarities/Geographical/ syner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Demining/Mine risk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Housing (temporary vs. Perman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0773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ey question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6940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2: Could you agree on a list of improvements that HQ should decide for enabling you to better act in transition situations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SimSun"/>
              </a:rPr>
              <a:t>Need for an official EC document/ guidelines on how to implement LR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SimSun"/>
              </a:rPr>
              <a:t>Need for a regulatory framework for implementing LR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To benefit from certain instruments (IFS, FSTP, EIDHR, AUP.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Foresee “Crisis situation”/Derog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0773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ey question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6940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2: Could you agree on a list of improvements that HQ should decide for enabling you to better act in transition situations? ...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  <a:ea typeface="SimSun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SimSun"/>
              </a:rPr>
              <a:t>Ensure and improve coordination at HQ level (ECHO/AIDCO/DEV/RELE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SimSun"/>
              </a:rPr>
              <a:t>And with DEL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SimSun"/>
              </a:rPr>
              <a:t>Ensure a multi-sector dimension of LRRD (not only F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SimSun"/>
              </a:rPr>
              <a:t>Establishment of EC TF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SimSun"/>
              </a:rPr>
              <a:t>Aid effectivenes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0773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ey question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6940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3: Do you think that it would be a good idea to have a joint “humanitarian development strategic framework” for addressing very specific objectives (for example joint strategic framework (JSF) for reducing the prevalence of malnutrition or JSF for resettlement of IDP/refuge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SimSun"/>
              </a:rPr>
              <a:t>Country/Crisis based (very specifi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SimSun"/>
              </a:rPr>
              <a:t>Mutually agreed/Not impose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SimSun"/>
              </a:rPr>
              <a:t>More suitable in protracted and/or recurrent cr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SimSun"/>
              </a:rPr>
              <a:t>Useful for designing exit strate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06:59:49Z</dcterms:created>
  <dc:creator>apo</dc:creator>
  <dc:description/>
  <dc:language>en-US</dc:language>
  <cp:lastModifiedBy>albyflores_v</cp:lastModifiedBy>
  <dcterms:modified xsi:type="dcterms:W3CDTF">2010-07-19T11:57:48Z</dcterms:modified>
  <cp:revision>821</cp:revision>
  <dc:subject/>
  <dc:title>Trade &amp; Development Training - Pilot Phase</dc:title>
</cp:coreProperties>
</file>